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765-C472-465F-8B99-5B8A317B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65B-74D5-4B17-B4C0-5765EAD7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603-5FA6-4575-A780-C771BFFF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214-6FB6-471B-B54A-7830D11C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C756-2E42-41FD-AEB4-A78C7302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AB3E-F632-436F-8774-02E9CA68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9E36-8131-4E57-85BA-5FA8E734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5944-4B21-4748-922D-89E13844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8971-FD6A-4E05-9F1F-EBBBC19D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2A32-6107-41CD-A0AB-06EB3850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1029-1A31-4BDE-AA9A-C8AEEA1B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15A-2AD9-41F5-9B21-260430A7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1072-53CE-42ED-A25D-07A5201C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74CD-43B1-417F-8588-B33BD36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4EE1-CB6D-4D09-9DEC-531CFCF2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D52A-44E9-470B-87D0-4B74F612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2039-26DD-49B9-8B24-C88A269C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B2D-8740-4257-8245-D8330CE4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861-EE40-4966-9846-D28D639A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446-E8D9-469C-8CC0-A00C1819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98E-B07E-49C3-9F26-FC0D0C44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437-97ED-44C9-A9F7-CC7E41BC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B14-D2E0-4787-ABD3-11329D1A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09F-C6C7-4BC1-A5F7-B9F0C17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CF79-2891-4DC5-9573-24757E1D1E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BA6A-EFEE-4BBA-B54A-0729B24CBD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dobe Caslon Pro Bold"/>
              </a:rPr>
              <a:t>COMPLEX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dobe Caslon Pro Bold"/>
              </a:rPr>
              <a:t>COMPLEX SU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dobe Caslon Pro Bold"/>
              </a:rPr>
              <a:t>Compulsion </a:t>
            </a:r>
            <a:r>
              <a:rPr b="0" i="1" lang="ru-RU" sz="2400" spc="-1" strike="noStrike">
                <a:solidFill>
                  <a:srgbClr val="000000"/>
                </a:solidFill>
                <a:latin typeface="Adobe Caslon Pro Bold"/>
              </a:rPr>
              <a:t>(заставить, распорядиться, добить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Her steps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made him turn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his h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(!!! bare i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he nois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caused her to awak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Sh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caused the telegramme to be sent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at o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can’t get her to start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doing home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had her go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there.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(!!!bare i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sense perce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to hear, to see, to watch, to fee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to observe, to no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!!!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These verbs in the Active Voice are used with 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BARE Infinitive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!!!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n the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Passive voice the particle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TO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appears!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e.g.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felt the blood rush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into my cheeks.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saw Jim enter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he roo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Note 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If “to see” means “to understand” Complex Object is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used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dobe Caslon Pro Bold"/>
              </a:rPr>
              <a:t>I saw that he didn’t realize the da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Not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f “to hear” means “to learn”, “to be told”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a clause or a gerund is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I hear that he left for the South/of his leaving for the South.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After the verbs </a:t>
            </a:r>
            <a:r>
              <a:rPr b="0" lang="en-US" sz="3200" spc="-1" strike="noStrike">
                <a:solidFill>
                  <a:srgbClr val="ff0000"/>
                </a:solidFill>
                <a:latin typeface="Adobe Caslon Pro Bold"/>
              </a:rPr>
              <a:t>“to know”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dobe Caslon Pro Bold"/>
              </a:rPr>
              <a:t>“to help”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both variants of the infinitive can follow!!! In modern English </a:t>
            </a:r>
            <a:r>
              <a:rPr b="0" i="1" lang="en-US" sz="3200" spc="-1" strike="noStrike">
                <a:solidFill>
                  <a:srgbClr val="000000"/>
                </a:solidFill>
                <a:latin typeface="Adobe Caslon Pro Bold"/>
              </a:rPr>
              <a:t>a bare infinitive is more comm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But in Passive Voic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dobe Caslon Pro Bold"/>
              </a:rPr>
              <a:t>TO-inf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is us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’ve never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known him (to) be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so mean.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Could you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help me (to) fix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he c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She was known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have worked as a teac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dobe Caslon Pro Bold"/>
              </a:rPr>
              <a:t>The verbs used with a bare infinitive in Active Voi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ake, to force, to have (compul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l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Passive “to allow” is used inst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ee, to hear, to watch, to obser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no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In Passive Voice they take TO-inf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obe Caslon Pro Bold"/>
              </a:rPr>
              <a:t>Compare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557360"/>
          <a:ext cx="8929800" cy="3889440"/>
        </p:xfrm>
        <a:graphic>
          <a:graphicData uri="http://schemas.openxmlformats.org/drawingml/2006/table">
            <a:tbl>
              <a:tblPr/>
              <a:tblGrid>
                <a:gridCol w="4392720"/>
                <a:gridCol w="45370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33ff"/>
                          </a:solidFill>
                          <a:latin typeface="Adobe Caslon Pro Bold"/>
                        </a:rPr>
                        <a:t>Complex Object + Infini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9933ff"/>
                          </a:solidFill>
                          <a:latin typeface="Adobe Caslon Pro Bold"/>
                        </a:rPr>
                        <a:t>Complex Object + Participle 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w him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room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noticed him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wn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elt h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mble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eard h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saw him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i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bar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noticed him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wni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elt h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mbling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eard her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k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dobe Caslon Pro Bold"/>
              </a:rPr>
              <a:t>Complex Sub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dobe Caslon Pro Bold"/>
              </a:rPr>
              <a:t>noun/pronoun      +</a:t>
            </a:r>
            <a:r>
              <a:rPr b="0" lang="ru-RU" sz="48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Adobe Caslon Pro Bold"/>
              </a:rPr>
              <a:t>is said/is believed/turns out etc +     infinitive/perfect infini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dobe Caslon Pro Bold"/>
              </a:rPr>
              <a:t>In all voices we use CS with particle TO 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In Russian Complex Subject sounds like </a:t>
            </a:r>
            <a:r>
              <a:rPr b="0" i="1" lang="ru-RU" sz="3200" spc="-1" strike="noStrike">
                <a:solidFill>
                  <a:srgbClr val="000000"/>
                </a:solidFill>
                <a:latin typeface="Adobe Caslon Pro Bold"/>
              </a:rPr>
              <a:t>неопределенно-личное предложение (говорят, считают, известно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Complex Subject is us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sai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hear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see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know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expec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believ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is considered                                    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see, to feel, to hear…- sense per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know, to expect, to believe…- menta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make, to order, to force…- order, request, per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say, to inform, to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appear, to seem, to happen, to prov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turn ou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o be likely, to be sure, to be ce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Complex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Personal                     Im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dobe Caslon Pro Bold"/>
              </a:rPr>
              <a:t>He</a:t>
            </a: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 is know (to be)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dobe Caslon Pro Bold"/>
              </a:rPr>
              <a:t>It</a:t>
            </a: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 is known (tha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a liar.                                he  is a liar.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dobe Caslon Pro Bold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 flipH="1">
            <a:off x="2627280" y="1268280"/>
            <a:ext cx="1440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4859280" y="1268280"/>
            <a:ext cx="13683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obe Caslon Pro Bold"/>
              </a:rPr>
              <a:t>Complex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dobe Caslon Pro Bold"/>
              </a:rPr>
              <a:t>noun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(Mum, teacher) + a verb (wants) + </a:t>
            </a:r>
            <a:r>
              <a:rPr b="0" lang="en-US" sz="5400" spc="-1" strike="noStrike">
                <a:solidFill>
                  <a:srgbClr val="ff0000"/>
                </a:solidFill>
                <a:latin typeface="Adobe Caslon Pro Bold"/>
              </a:rPr>
              <a:t>pronoun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(him..) +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         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infinitive/bare infini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           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(to do his home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dobe Caslon Pro Bold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was heard</a:t>
            </a:r>
            <a:r>
              <a:rPr b="0" lang="ru-RU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laugh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merr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Anne’s father was heard approaching at that mo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o express the process we use Participl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H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was believed to b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honest and intellig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Juli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was made to take part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in the tr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She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is said to have becom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famou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completed 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The child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seems to b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aslee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Russian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 O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ill be translated as a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ith conjunctions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,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ак, что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dobe Caslon Pro Bold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wanted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the director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of this TNC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to stop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the work of this sweatsho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(noun in the common c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She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made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dobe Caslon Pro Bold"/>
              </a:rPr>
              <a:t>him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buy</a:t>
            </a: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 her a new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Caslon Pro Bold"/>
              </a:rPr>
              <a:t>(pronoun in the objective c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dobe Caslon Pro Bold"/>
              </a:rPr>
              <a:t>The verbs used with Complex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wish &amp; int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wish, to want, to desire, would lik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mean, to intend, to ch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dobe Caslon Pro Bold"/>
              </a:rPr>
              <a:t>mental activity (generally with the verb “to b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know,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dobe Caslon Pro Bold"/>
              </a:rPr>
              <a:t>to expect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, to believe, to think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consider, to suppose, to expec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dobe Caslon Pro Bold"/>
              </a:rPr>
              <a:t>to imagine, to find, to feel, to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dobe Caslon Pro Bold"/>
              </a:rPr>
              <a:t>Examples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Adobe Caslon Pro Bold"/>
              </a:rPr>
              <a:t>want you to start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for the trip immediate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I didn’t </a:t>
            </a:r>
            <a:r>
              <a:rPr b="0" lang="en-US" sz="4000" spc="-1" strike="noStrike">
                <a:solidFill>
                  <a:srgbClr val="ff0000"/>
                </a:solidFill>
                <a:latin typeface="Adobe Caslon Pro Bold"/>
              </a:rPr>
              <a:t>mean him to learn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the dialogue by he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I don’t </a:t>
            </a:r>
            <a:r>
              <a:rPr b="0" lang="en-US" sz="4000" spc="-1" strike="noStrike">
                <a:solidFill>
                  <a:srgbClr val="ff0000"/>
                </a:solidFill>
                <a:latin typeface="Adobe Caslon Pro Bold"/>
              </a:rPr>
              <a:t>choose you to live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in the hot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dobe Caslon Pro Bold"/>
              </a:rPr>
              <a:t>Examples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know him to be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he most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unscrupulous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man I ever knew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If you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suppose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his young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lady to be intelligent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enough, you’re definitely mista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Everybody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expected her to marry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T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The doctor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found 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Pete’s </a:t>
            </a:r>
            <a:r>
              <a:rPr b="1" lang="en-US" sz="3600" spc="-1" strike="noStrike">
                <a:solidFill>
                  <a:srgbClr val="ff0000"/>
                </a:solidFill>
                <a:latin typeface="Adobe Caslon Pro Bold"/>
              </a:rPr>
              <a:t>heart to have stopped</a:t>
            </a:r>
            <a:r>
              <a:rPr b="1" lang="en-US" sz="3600" spc="-1" strike="noStrike">
                <a:solidFill>
                  <a:srgbClr val="000000"/>
                </a:solidFill>
                <a:latin typeface="Adobe Caslon Pro Bold"/>
              </a:rPr>
              <a:t> 2 hours before. </a:t>
            </a:r>
            <a:r>
              <a:rPr b="1" i="1" lang="en-US" sz="3600" spc="-1" strike="noStrike">
                <a:solidFill>
                  <a:srgbClr val="000000"/>
                </a:solidFill>
                <a:latin typeface="Adobe Caslon Pro Bold"/>
              </a:rPr>
              <a:t>(perfect infinitive for prior ac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933ff"/>
                </a:solidFill>
                <a:latin typeface="Adobe Caslon Pro Bold"/>
              </a:rPr>
              <a:t>NB!</a:t>
            </a:r>
            <a:r>
              <a:rPr b="0" lang="en-US" sz="3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The verbs 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to think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to consider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,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dobe Caslon Pro Bold"/>
              </a:rPr>
              <a:t>to find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 can be used </a:t>
            </a:r>
            <a:r>
              <a:rPr b="1" lang="en-US" sz="3600" spc="-1" strike="noStrike" u="sng">
                <a:solidFill>
                  <a:srgbClr val="9933ff"/>
                </a:solidFill>
                <a:uFillTx/>
                <a:latin typeface="Adobe Caslon Pro Bold"/>
              </a:rPr>
              <a:t>without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 </a:t>
            </a:r>
            <a:r>
              <a:rPr b="1" lang="en-US" sz="3600" spc="-1" strike="noStrike" u="sng">
                <a:solidFill>
                  <a:srgbClr val="9933ff"/>
                </a:solidFill>
                <a:uFillTx/>
                <a:latin typeface="Adobe Caslon Pro Bold"/>
              </a:rPr>
              <a:t>an infinitive</a:t>
            </a:r>
            <a:r>
              <a:rPr b="1" lang="en-US" sz="3600" spc="-1" strike="noStrike">
                <a:solidFill>
                  <a:srgbClr val="9933ff"/>
                </a:solidFill>
                <a:latin typeface="Adobe Caslon Pro Bold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3212640"/>
            <a:ext cx="82184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dobe Caslon Pro Bold"/>
              </a:rPr>
              <a:t>thought her beautiful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dobe Caslon Pro Bold"/>
              </a:rPr>
              <a:t>found the key idea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 of the lectio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dobe Caslon Pro Bold"/>
              </a:rPr>
              <a:t>interesting</a:t>
            </a: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feelings &amp; emo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to like, to dislike, to love, to hate, can’t stand/bear</a:t>
            </a:r>
            <a:r>
              <a:rPr b="1" lang="en-US" sz="24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e.g. 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dobe Caslon Pro Bold"/>
              </a:rPr>
              <a:t>dislike you to talk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 like that</a:t>
            </a:r>
            <a:r>
              <a:rPr b="1" lang="ru-RU" sz="2800" spc="-1" strike="noStrike">
                <a:solidFill>
                  <a:srgbClr val="000000"/>
                </a:solidFill>
                <a:latin typeface="Adobe Caslon Pro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dobe Caslon Pro Bold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dobe Caslon Pro Bold"/>
              </a:rPr>
              <a:t>can’t bear you to behave</a:t>
            </a:r>
            <a:r>
              <a:rPr b="1" lang="en-US" sz="2800" spc="-1" strike="noStrike">
                <a:solidFill>
                  <a:srgbClr val="000000"/>
                </a:solidFill>
                <a:latin typeface="Adobe Caslon Pro Bold"/>
              </a:rPr>
              <a:t> so nas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order &amp; permission + compul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to order,  to allow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dobe Caslon Pro Bold"/>
              </a:rPr>
              <a:t>to let</a:t>
            </a: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, to ask for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dobe Caslon Pro Bold"/>
              </a:rPr>
              <a:t>to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dobe Caslon Pro Bold"/>
              </a:rPr>
              <a:t>to have</a:t>
            </a: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, to suffer, to get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dobe Caslon Pro Bold"/>
              </a:rPr>
              <a:t>to make</a:t>
            </a:r>
            <a:r>
              <a:rPr b="1" lang="en-US" sz="3200" spc="-1" strike="noStrike">
                <a:solidFill>
                  <a:srgbClr val="ff0000"/>
                </a:solidFill>
                <a:latin typeface="Adobe Caslon Pro Bold"/>
              </a:rPr>
              <a:t>, to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e.g.</a:t>
            </a:r>
            <a:r>
              <a:rPr b="1" lang="en-US" sz="3200" spc="-1" strike="noStrike">
                <a:solidFill>
                  <a:srgbClr val="000000"/>
                </a:solidFill>
                <a:latin typeface="Adobe Caslon Pro Bol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S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dobe Caslon Pro Bold"/>
              </a:rPr>
              <a:t>ordered the car to be ready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 by 6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Jam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dobe Caslon Pro Bold"/>
              </a:rPr>
              <a:t>suffered his wife to wear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 such short ski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dobe Caslon Pro Bold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dobe Caslon Pro Bold"/>
              </a:rPr>
              <a:t>разрешать неохотно, скрепя сердце</a:t>
            </a:r>
            <a:r>
              <a:rPr b="0" i="1" lang="ru-RU" sz="2400" spc="-1" strike="noStrike">
                <a:solidFill>
                  <a:srgbClr val="000000"/>
                </a:solidFill>
                <a:latin typeface="Adobe Caslon Pro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dobe Caslon Pro Bold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I won’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dobe Caslon Pro Bold"/>
              </a:rPr>
              <a:t>have you speak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 like tha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dobe Caslon Pro Bold"/>
              </a:rPr>
              <a:t>(close to “to suffer” in the mea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dobe Caslon Pro Bold"/>
              </a:rPr>
              <a:t>NB!</a:t>
            </a:r>
            <a:r>
              <a:rPr b="1" lang="en-US" sz="2400" spc="-1" strike="noStrike">
                <a:solidFill>
                  <a:srgbClr val="000000"/>
                </a:solidFill>
                <a:latin typeface="Adobe Caslon Pro Bold"/>
              </a:rPr>
              <a:t> The underlined words don’t take TO-inf in active voice! In Passive voice “to let” is substituted with “to allow”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4:52:12Z</dcterms:created>
  <dc:creator>Elizaveta</dc:creator>
  <dc:description/>
  <dc:language>en-US</dc:language>
  <cp:lastModifiedBy>Lizzie</cp:lastModifiedBy>
  <dcterms:modified xsi:type="dcterms:W3CDTF">2012-12-13T15:55:55Z</dcterms:modified>
  <cp:revision>26</cp:revision>
  <dc:subject/>
  <dc:title>COMPLEX OBJECT</dc:title>
</cp:coreProperties>
</file>